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2EA-C517-4105-A434-3371C285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25E-8B5C-4EFD-B23A-F549FECA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59E-0C1D-435D-98C0-9B10C6FA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6AD-672A-4F8A-AB25-5AC4B6A3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0AEB9-0B9A-4B06-8F9D-A9DA18FB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20B7-CEB4-4E25-8F15-CD64C2B3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6B7D0-A6E9-44C8-8CEA-E576739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403AF-D0C5-4C9D-95A1-20360EA2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E5A29-5334-4CAF-BA87-AD8C5BF6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6B182-578B-48E0-ABA3-BC5FCE5A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95EC0-F88B-4647-8D68-26BE4CA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A8B-986F-43C1-87DB-8F2675A9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FC527-1716-45DF-901D-A6D3237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EB6F-3BFC-4683-AC2C-AADA25C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22F60-A338-479E-AE68-33E21B3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C28CA-647A-4B52-9BF5-6CDD7D68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DF4CA-5571-4629-92C6-B3F0D3A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2D3-EA29-4D0F-BB47-13E02DA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13D-A0B9-4522-A596-7EDB49EA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223-F575-4E8A-A1F3-890506D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28D-B9A5-4FBC-B9B9-C5070D4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422-9178-4ACB-A8BD-41832A4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542-6F5D-4FAA-B2B9-1C0C969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D7B-0307-40F9-A0E6-F578D74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4BF9-2FE5-47AF-9324-AE3A1229B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14B7-82C5-4536-A9C4-D75C3FF7E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Long, O Lord?”</a:t>
            </a:r>
            <a:br>
              <a:rPr sz="4400"/>
            </a:br>
            <a:br>
              <a:rPr sz="4400"/>
            </a:b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he Epistle to the Hebrew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67-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7E71E-1CA7-4219-8B9F-6EE8DCF18986}" type="slidenum">
              <a:t>1</a:t>
            </a:fld>
          </a:p>
        </p:txBody>
      </p:sp>
    </p:spTree>
  </p:cSld>
  <p:transition spd="slow" advTm="1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Arguments in Hebrews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superior to proph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superior to ang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:4 - 2: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superior to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:1 - 4: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’s priesthood is superior to Aaro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:14 – 10: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C19-138D-46E5-BE3A-6B7FCF3F19CA}" type="slidenum">
              <a:t>2</a:t>
            </a:fld>
          </a:p>
        </p:txBody>
      </p:sp>
    </p:spTree>
  </p:cSld>
  <p:transition spd="slow" advTm="2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 Proofs of the Superiority of Christ’s Priesthoo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after a higher order than Le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made with an o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unchangeable priest, and everla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less priest, unlike those of the old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iest of a better cove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iest of a better taberna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with a better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0E6-2502-4C3E-91B8-E59A26E59618}" type="slidenum">
              <a:t>3</a:t>
            </a:fld>
          </a:p>
        </p:txBody>
      </p:sp>
    </p:spTree>
  </p:cSld>
  <p:transition advTm="3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1:28:05Z</dcterms:created>
  <dc:creator>Tab L. Vines</dc:creator>
  <dc:description/>
  <dc:language>en-US</dc:language>
  <cp:lastModifiedBy>Frank D Vines</cp:lastModifiedBy>
  <dcterms:modified xsi:type="dcterms:W3CDTF">2007-08-22T22:59:45Z</dcterms:modified>
  <cp:revision>20</cp:revision>
  <dc:subject/>
  <dc:title>Hebrews </dc:title>
</cp:coreProperties>
</file>